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explode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41F-091A-4CCA-BD4B-D1A036C6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26D-7C44-4AC8-828D-0AD9E1C8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FC7-1A60-45E7-B07B-C4E8D50F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832-A70F-4680-9BA8-63FAE245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6DF-5A96-4D67-9F5A-FE710F3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6CB-7DC3-497A-8F19-A2B901C4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233-36D1-495E-A520-D2C80322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70A-8315-4287-80E4-BC938D9E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C8D-14DC-42F8-AC89-95B73E0E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C28-E592-4A5E-AFD6-16B120DC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3B6-9641-4DAD-8CDB-505F8E6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1D1-473E-4780-B45A-C1E57725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E110-6DB4-4951-A37F-3967567B5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0" y="609480"/>
            <a:ext cx="845820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迎接挑战，挥洒中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5640" y="404280"/>
            <a:ext cx="392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倒计时的意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1844640"/>
            <a:ext cx="6553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考长途中一个新的起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考长途中一个加油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考长途中一次重要转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认清自己前进的征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间紧迫，任重道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这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倒计时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的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时刻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热血沸腾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心潮澎湃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更要把壮志雄心来展现 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我们的誓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95280"/>
            <a:ext cx="9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珍惜时间，驾驭时间，做时间的主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2209680"/>
            <a:ext cx="8915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时间在于积累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学习要有针对性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学习要有目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1080" y="510552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把握现在应惜时如金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应执著不懈，应笑迎痛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304920"/>
            <a:ext cx="754380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为了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爱我们的人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我们所爱的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我们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66"/>
                </a:solidFill>
                <a:latin typeface="Times New Roman"/>
                <a:ea typeface="黑体"/>
              </a:rPr>
              <a:t>    </a:t>
            </a:r>
            <a:r>
              <a:rPr b="1" i="1" lang="zh-CN" sz="9600" spc="-1" strike="noStrike">
                <a:solidFill>
                  <a:srgbClr val="ff0066"/>
                </a:solidFill>
                <a:latin typeface="Times New Roman"/>
                <a:ea typeface="黑体"/>
              </a:rPr>
              <a:t>点燃斗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66"/>
                </a:solidFill>
                <a:latin typeface="Times New Roman"/>
                <a:ea typeface="黑体"/>
              </a:rPr>
              <a:t>珍惜时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838080"/>
            <a:ext cx="73915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班主任的嘱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好身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强心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优课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   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重课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           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勤学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219320"/>
            <a:ext cx="8076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黑体"/>
                <a:ea typeface="黑体"/>
              </a:rPr>
              <a:t>“</a:t>
            </a:r>
            <a:r>
              <a:rPr b="0" lang="zh-CN" sz="6000" spc="-1" strike="noStrike">
                <a:solidFill>
                  <a:srgbClr val="cc00cc"/>
                </a:solidFill>
                <a:latin typeface="黑体"/>
                <a:ea typeface="黑体"/>
              </a:rPr>
              <a:t>四自”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自省 自律 自信 自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Times New Roman"/>
                <a:ea typeface="华文楷体"/>
              </a:rPr>
              <a:t>恩师寄语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9144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27720" y="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考解读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次磨砺。梅花香自苦寒来，宝剑锋從磨砺出，而参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就是为意志的磨练及毅力的锻造做了首场洗礼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个舞台。十几年磨一剑，锋刃未曾试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展现最美丽的自己提供了舞台，只有经历过才知道其丰富多彩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场赌博。将我们的青春、精力和热情全部拿去做赌注，一旦输了仿佛就跌入万丈深渊；即使侥幸赢了，得到的也不过是一张进入大学的入场券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80880"/>
            <a:ext cx="838188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次挑战，投入的是努力、汗水，收获的是进入更高一级学校接受更深层次教育的机会和条件；即使失败，也并非一无所获，将得到丰富的知识及一段难忘的人生经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次角逐。失败者淘汰出局，成功者将开始新的征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是一个转折点。人生中，第一次如此真切地感受到命运就把握在自己手中，无论成败，经过它，我们都将踏进一个全新的人生旅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距</a:t>
            </a:r>
            <a:r>
              <a:rPr b="1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2007</a:t>
            </a:r>
            <a:r>
              <a:rPr b="1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年考还有</a:t>
            </a:r>
            <a:r>
              <a:rPr b="1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100 </a:t>
            </a:r>
            <a:r>
              <a:rPr b="1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5086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Times New Roman"/>
                <a:ea typeface="黑体"/>
              </a:rPr>
              <a:t>   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倒计时启动典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609480"/>
            <a:ext cx="85345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实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不神秘，只要付出了努力，问心无愧地过好每一天，就会拥有属于自己的一片天空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多的只是一次来证明自己价值的宝贵机会，不论最终结果如何，奋斗的过程才是最美好的！因为目标不仅仅是重点高中大学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高考都只是人生路上的一个起点，而不是终点。在自己梦想的鼓舞下，去拼搏去努力吧！心有多大，舞台就有多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-1143000"/>
            <a:ext cx="8458200" cy="9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Times New Roman"/>
              </a:rPr>
              <a:t>                                          </a:t>
            </a:r>
            <a:r>
              <a:rPr b="1" lang="zh-CN" sz="5400" spc="-1" strike="noStrike">
                <a:solidFill>
                  <a:srgbClr val="cc00cc"/>
                </a:solidFill>
                <a:latin typeface="黑体"/>
                <a:ea typeface="黑体"/>
              </a:rPr>
              <a:t>我发誓</a:t>
            </a:r>
            <a:br>
              <a:rPr sz="5400"/>
            </a:b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是一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有良知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的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将无愧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父母的养育之恩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老师的良苦用心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是一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有骨气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的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不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甘于平庸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碌碌无为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我将通过百倍的努力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改变人生，创造辉煌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是一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意志坚强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的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决不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言苦言累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头悬梁、锥刺骨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”将是我学习上永远的榜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是一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惜时如金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的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决不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浪费分秒宝贵的时间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更灯火五更鸡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”将会是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刻苦学习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的真实写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是一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潜力无穷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的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的潜力在于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始终不渝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坚持不懈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的努力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00200"/>
            <a:ext cx="4267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要把今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作百米赛跑的最后冲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了人生的关键几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力以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父母含泪哺育了我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不能用失望奉敬他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是蓝天的女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决不沉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676520"/>
            <a:ext cx="457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是太阳的女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更爱光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忘却昨天的光荣和遗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要用信心驱赶黑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勤奋钻研化解疑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要让心中的梦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让今天成为不朽的纪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8880" y="40464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班中考誓师宣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0"/>
            <a:ext cx="716256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同学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金榜题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1080" y="549360"/>
            <a:ext cx="44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回忆已经过去的学习生活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09040" y="5084640"/>
            <a:ext cx="586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现在 ，我们面对的是实实在在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3640" y="249228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面对为之奋斗近十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梦想中的高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憧憬中的大学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3400" y="1628640"/>
            <a:ext cx="479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面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007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中考的洗礼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04:02:47Z</dcterms:created>
  <dc:creator>彭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5:54:51Z</dcterms:modified>
  <cp:revision>12</cp:revision>
  <dc:subject>主题班会课件(分28大类): http://shop62905894.taobao.com</dc:subject>
  <dc:title>主题班会课件(分28大类): http://shop62905894.taobao.com</dc:title>
</cp:coreProperties>
</file>